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6768-AEFB-4FFD-955F-8A7291643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D8A2-0742-47FC-8E46-0B3A3939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269B-61F9-49CA-8690-967BC4CA2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8FAF-E529-48A8-9D70-9F0C925C6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4005-925E-4AEF-8AEE-CC23364A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C403-78EE-45C3-B023-E530EC11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A7A8-F5F7-4268-A406-ED1D42A4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8D52-E269-4D21-87CC-E3AB9984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7608-6640-4829-A4B2-F33F4540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81D6-C4C0-4D80-B908-E11CB327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28BB-5C84-4C73-A51D-FCC0E173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B0F2-8BB7-45AC-AA02-2C171C07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300E-412D-4025-8900-720C33BC6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hyperlink" Target="http://upload.wikimedia.org/wikipedia/commons/c/c3/37_Lyndon_Johnson_3x4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imdb.com/rg/mediaindex/thumbnail/media/rm1416206336/nm0000069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www.imdb.com/rg/mediaindex/thumbnail/media/rm1503631360/nm0000054" TargetMode="External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hyperlink" Target="http://z.about.com/d/womenshistory/1/0/z/I/jackie_kennedy.jpg" TargetMode="External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image" Target="../media/image1.jpeg"/><Relationship Id="rId14" Type="http://schemas.openxmlformats.org/officeDocument/2006/relationships/image" Target="../media/image5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hyperlink" Target="http://www.time.com/time/2003/jfk/photoessay/5.html" TargetMode="External"/><Relationship Id="rId5" Type="http://schemas.openxmlformats.org/officeDocument/2006/relationships/image" Target="../media/image8.jpeg"/><Relationship Id="rId6" Type="http://schemas.openxmlformats.org/officeDocument/2006/relationships/hyperlink" Target="http://www.time.com/time/2003/jfk/photoessay/2.html" TargetMode="External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time.com/time/2003/jfk/photoessay/5.html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www.time.com/time/2003/jfk/photoessay/2.html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hyperlink" Target="http://www.time.com/time/2003/jfk/photoessay/3.html" TargetMode="External"/><Relationship Id="rId9" Type="http://schemas.openxmlformats.org/officeDocument/2006/relationships/image" Target="../media/image10.jpeg"/><Relationship Id="rId10" Type="http://schemas.openxmlformats.org/officeDocument/2006/relationships/hyperlink" Target="http://www.time.com/time/2003/jfk/photoessay/6.html" TargetMode="External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3520" cy="1828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President Kennedy, head and shoulders portrait photograph, looking up. Photograph distributed by the White House. "/>
          <p:cNvPicPr/>
          <p:nvPr/>
        </p:nvPicPr>
        <p:blipFill>
          <a:blip r:embed="rId2"/>
          <a:stretch/>
        </p:blipFill>
        <p:spPr>
          <a:xfrm>
            <a:off x="2133720" y="24382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File:37 Lyndon Johnson 3x4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5334120"/>
            <a:ext cx="381240" cy="533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280" y="586728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B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Frank Sinatra, portrait for Kings Go Forth, 1958.&#10;Vintage silver gelatin, 7x13.5, signed. $900&#10;Â© 1978 Bill Avery&#10;MPTV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480" y="5334120"/>
            <a:ext cx="532080" cy="530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580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c. 1953&#10;Photo by Frank Powolny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19320" y="53341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ily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Robert F. Kennedy - Photo"/>
          <p:cNvPicPr/>
          <p:nvPr/>
        </p:nvPicPr>
        <p:blipFill>
          <a:blip r:embed="rId9"/>
          <a:stretch/>
        </p:blipFill>
        <p:spPr>
          <a:xfrm>
            <a:off x="152280" y="6095880"/>
            <a:ext cx="393840" cy="536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bb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A picture of First Lady Jacqueline Kennedy, wife of President John F. Kennedy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85800" y="6095880"/>
            <a:ext cx="423720" cy="533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ck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7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Robert Frost"/>
          <p:cNvPicPr/>
          <p:nvPr/>
        </p:nvPicPr>
        <p:blipFill>
          <a:blip r:embed="rId12"/>
          <a:stretch/>
        </p:blipFill>
        <p:spPr>
          <a:xfrm>
            <a:off x="1219320" y="6095880"/>
            <a:ext cx="420480" cy="549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19320" y="66438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b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bby Kennedy to 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ave you finalized your plans for the Texas trip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1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President Kennedy, head and shoulders portrait photograph, looking up. Photograph distributed by the White House. "/>
          <p:cNvPicPr/>
          <p:nvPr/>
        </p:nvPicPr>
        <p:blipFill>
          <a:blip r:embed="rId13"/>
          <a:stretch/>
        </p:blipFill>
        <p:spPr>
          <a:xfrm>
            <a:off x="2133720" y="3809880"/>
            <a:ext cx="417240" cy="533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Robert F. Kennedy - Photo"/>
          <p:cNvPicPr/>
          <p:nvPr/>
        </p:nvPicPr>
        <p:blipFill>
          <a:blip r:embed="rId14"/>
          <a:stretch/>
        </p:blipFill>
        <p:spPr>
          <a:xfrm>
            <a:off x="2133720" y="3124080"/>
            <a:ext cx="393480" cy="5367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can’t believe I had to actually send the National Guard to Alabama just so some kids could go to college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11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President Kennedy, head and shoulders portrait photograph, looking up. Photograph distributed by the White House. "/>
          <p:cNvPicPr/>
          <p:nvPr/>
        </p:nvPicPr>
        <p:blipFill>
          <a:blip r:embed="rId15"/>
          <a:stretch/>
        </p:blipFill>
        <p:spPr>
          <a:xfrm>
            <a:off x="2133720" y="44956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so glad we avoided war with the Russians!  That Crisis in Cuba had my blood boiling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28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President Kennedy, head and shoulders portrait photograph, looking up. Photograph distributed by the White House. "/>
          <p:cNvPicPr/>
          <p:nvPr/>
        </p:nvPicPr>
        <p:blipFill>
          <a:blip r:embed="rId16"/>
          <a:stretch/>
        </p:blipFill>
        <p:spPr>
          <a:xfrm>
            <a:off x="2133720" y="51814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opes everyone realizes how serious I am about putting a man on the moon!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9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President Kennedy, head and shoulders portrait photograph, looking up. Photograph distributed by the White House. "/>
          <p:cNvPicPr/>
          <p:nvPr/>
        </p:nvPicPr>
        <p:blipFill>
          <a:blip r:embed="rId17"/>
          <a:stretch/>
        </p:blipFill>
        <p:spPr>
          <a:xfrm>
            <a:off x="2133720" y="5791320"/>
            <a:ext cx="417240" cy="533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ishes the Bay of Pigs invasion had gone better!  I think Castro is going to be a major thorn in the side of the U.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7, 19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2080" cy="1828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rookline, Massachuset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Jacqueline Kenned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3200400"/>
            <a:ext cx="449568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ommanding the Army, making peace with the Soviet Union,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promoting civil rights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Sailing, Football, Summers in Hyannis, Space Expl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Frank Sinatra, Dean Martin, Sammy Davis, J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Some Like it Hot, Gentleman Prefer Blondes, Ocean’s Eleven, Guys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nd Do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Ed Sullivan Show, The Frank Sinatra Show, To Tell the Tr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he Road Not Taken, From Russia With Love, Marlborough, Declin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and Fall of the Roman Emp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52280" y="5257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38080" y="61722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Whit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00 Pennsylvania Avenue NW, Washington, DC 205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202) 456-11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JF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FK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Whit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51055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33720" y="51055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President Kennedy, head and shoulders portrait photograph, looking up. Photograph distributed by the White House. "/>
          <p:cNvPicPr/>
          <p:nvPr/>
        </p:nvPicPr>
        <p:blipFill>
          <a:blip r:embed="rId6"/>
          <a:stretch/>
        </p:blipFill>
        <p:spPr>
          <a:xfrm>
            <a:off x="3718080" y="5105520"/>
            <a:ext cx="895320" cy="1143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President Kennedy, head and shoulders portrait photograph, looking up. Photograph distributed by the White House. "/>
          <p:cNvPicPr/>
          <p:nvPr/>
        </p:nvPicPr>
        <p:blipFill>
          <a:blip r:embed="rId7"/>
          <a:stretch/>
        </p:blipFill>
        <p:spPr>
          <a:xfrm>
            <a:off x="152280" y="533520"/>
            <a:ext cx="596880" cy="7617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8380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2096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2"/>
          <a:stretch/>
        </p:blipFill>
        <p:spPr>
          <a:xfrm>
            <a:off x="3505320" y="1905120"/>
            <a:ext cx="1371600" cy="11509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3"/>
          <a:stretch/>
        </p:blipFill>
        <p:spPr>
          <a:xfrm>
            <a:off x="5029200" y="1905120"/>
            <a:ext cx="1523880" cy="1137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4"/>
          <a:stretch/>
        </p:blipFill>
        <p:spPr>
          <a:xfrm>
            <a:off x="838080" y="3200400"/>
            <a:ext cx="1040040" cy="1295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5"/>
          <a:stretch/>
        </p:blipFill>
        <p:spPr>
          <a:xfrm>
            <a:off x="2133720" y="3197160"/>
            <a:ext cx="1295280" cy="12556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6"/>
          <a:stretch/>
        </p:blipFill>
        <p:spPr>
          <a:xfrm>
            <a:off x="3581280" y="3200400"/>
            <a:ext cx="12067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1752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her Te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2590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the Missionaries of Charity in Calcutta, India, 19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79 – won Nobel peace Pr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80 – Awarded Bharat Ratna in In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28 – Joined the Sisters of Loreto as a missio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52 – Opened the Kalighat Home for the Dy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55 – Opened the Nirmala Shishu Bivhan for orphans and homeless child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82 – Negotiated a  cease-fire between Israeli and Palestine armies to rescue 37 children from a devastated hospi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91 – Opened Missionaries for Charity Brothers in Alba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83 – Suffered heart attack while visiting Pope John Paul II in R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Frisco ISD</cp:lastModifiedBy>
  <dcterms:modified xsi:type="dcterms:W3CDTF">2010-01-21T21:59:46Z</dcterms:modified>
  <cp:revision>16</cp:revision>
  <dc:subject/>
  <dc:title>Profile</dc:title>
</cp:coreProperties>
</file>